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FC5E9-9596-4ACB-8B46-385978A7A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8C64-EA1F-4A80-A6DA-9F374F86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4D991-7C24-4464-9AE4-7492B0560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3E9B0-773D-471D-ACB4-555C1CFB8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26397-E486-4DFE-98F8-D351C3399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16998-B602-4F1A-8BBE-FFA254357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8DB43-AF2E-4312-9E87-F70A8FDA7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D5338-CAE0-4B8B-905C-BA3DA9463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34B89-BF63-4A96-84FF-69CDAFDBE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9A675-C0B7-44FE-9414-3845632C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DD25-EA8B-4AAC-8459-27104111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FF308-AE36-4067-97EF-E20F095E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A2D79-C555-4337-9DE4-F4AE754E8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3AA3-2DF1-455F-8DEC-72404FF9A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F815C-A3C6-443F-87E9-666CFA2D0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B2137-307D-4782-AD1B-F104D7C85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E46D9-0182-4A97-81C4-8AD9B7777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8C42-3715-4602-A7C5-567CDF11C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1032-4EC2-4F88-94C8-99F456D82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F170C-6891-4B63-8A2B-9A7B7274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E2C3-00C2-4835-B541-388AC816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91D5-6902-4CA5-BAE9-CB29846E0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2D94-A056-471C-B970-696ACDC16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ABFC-7DB8-46FA-942B-B78669E9C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1B9A-3C86-49AD-99FA-B874369A12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F338-31A9-481F-A3CC-688D30D2EF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Cov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Second_Page.jpg"/>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Your Students</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s 5 and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identify 5–6 ground rules and any particular activities to teach and share these important behavi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Second_Page.jpg"/>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ementing PBL</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key points on Note-Taking Gu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content or grade level group, develop your own PBL “short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PBL Planning Template handout to guide you through the process and to document the lesson you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Second_Page.jpg"/>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eeping the Momentum Going:</a:t>
            </a:r>
            <a:br>
              <a:rPr sz="4000"/>
            </a:br>
            <a:r>
              <a:rPr b="1" lang="en-US" sz="4000" spc="-1" strike="noStrike">
                <a:solidFill>
                  <a:srgbClr val="000000"/>
                </a:solidFill>
                <a:latin typeface="Calibri"/>
              </a:rPr>
              <a:t>Creating a Culture in Your School</a:t>
            </a:r>
            <a:endParaRPr b="0" lang="en-US" sz="4000" spc="-1" strike="noStrike">
              <a:solidFill>
                <a:srgbClr val="000000"/>
              </a:solidFill>
              <a:latin typeface="Calibri"/>
            </a:endParaRPr>
          </a:p>
        </p:txBody>
      </p:sp>
      <p:sp>
        <p:nvSpPr>
          <p:cNvPr id="115" name=""/>
          <p:cNvSpPr txBox="1"/>
          <p:nvPr/>
        </p:nvSpPr>
        <p:spPr>
          <a:xfrm>
            <a:off x="457200" y="1828440"/>
            <a:ext cx="822960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your table, discuss the following ques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de PBL successful in the schools featured toda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make this successful in our schoo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our school climate or culture support PB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on Keeping the Momentum Going hand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Second_Page.jpg"/>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eeping the Momentum Going:</a:t>
            </a:r>
            <a:br>
              <a:rPr sz="4000"/>
            </a:br>
            <a:r>
              <a:rPr b="1" lang="en-US" sz="4000" spc="-1" strike="noStrike">
                <a:solidFill>
                  <a:srgbClr val="000000"/>
                </a:solidFill>
                <a:latin typeface="Calibri"/>
              </a:rPr>
              <a:t>Creating a Culture in Your School (cont.)</a:t>
            </a:r>
            <a:endParaRPr b="0" lang="en-US" sz="4000" spc="-1" strike="noStrike">
              <a:solidFill>
                <a:srgbClr val="000000"/>
              </a:solidFill>
              <a:latin typeface="Calibri"/>
            </a:endParaRPr>
          </a:p>
        </p:txBody>
      </p:sp>
      <p:sp>
        <p:nvSpPr>
          <p:cNvPr id="118"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your tabl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ly identify two ways to support a culture for PBL in your schoo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with the table and identify the two most compel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and prioritize with your entire group to develop next steps for your schoo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on Keeping the Momentum Going hand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Second_Page.jpg"/>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osing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Second_Page.jpg"/>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estions</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your Question Collector hand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any outstanding or lingering questions based on the content of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Second_Page.jpg"/>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GO-GO-MO:  </a:t>
            </a:r>
            <a:br>
              <a:rPr sz="4000"/>
            </a:br>
            <a:r>
              <a:rPr b="1" lang="en-US" sz="4000" spc="-1" strike="noStrike">
                <a:solidFill>
                  <a:srgbClr val="000000"/>
                </a:solidFill>
                <a:latin typeface="Calibri"/>
                <a:ea typeface="Arial"/>
              </a:rPr>
              <a:t>Give One, Get One, Move On</a:t>
            </a:r>
            <a:endParaRPr b="0" lang="en-US" sz="4000" spc="-1" strike="noStrike">
              <a:solidFill>
                <a:srgbClr val="000000"/>
              </a:solidFill>
              <a:latin typeface="Calibri"/>
            </a:endParaRPr>
          </a:p>
        </p:txBody>
      </p:sp>
      <p:sp>
        <p:nvSpPr>
          <p:cNvPr id="126" name=""/>
          <p:cNvSpPr txBox="1"/>
          <p:nvPr/>
        </p:nvSpPr>
        <p:spPr>
          <a:xfrm>
            <a:off x="457200" y="18288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will you use the content and processes shared today to support PBL in your classroom?</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ly, fill in the first three boxes with ways that you can apply the content in this session in your role as a classroom teache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up and find others with whom to sh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one idea away and get one idea from each person you meet. Your goal is to have a different idea in each box. Note them in the rest of the box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completed all the boxes, sit dow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Second_Page.jpg"/>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Thank you!</a:t>
            </a:r>
            <a:endParaRPr b="0" lang="en-US" sz="4000" spc="-1" strike="noStrike">
              <a:solidFill>
                <a:srgbClr val="000000"/>
              </a:solidFill>
              <a:latin typeface="Calibri"/>
            </a:endParaRPr>
          </a:p>
        </p:txBody>
      </p:sp>
      <p:sp>
        <p:nvSpPr>
          <p:cNvPr id="129" name="PlaceHolder 2"/>
          <p:cNvSpPr>
            <a:spLocks noGrp="1"/>
          </p:cNvSpPr>
          <p:nvPr>
            <p:ph type="subTitle"/>
          </p:nvPr>
        </p:nvSpPr>
        <p:spPr>
          <a:xfrm>
            <a:off x="1371600" y="5333760"/>
            <a:ext cx="6400800" cy="6858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10 ASCD. All rights reserv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Second_Page.jpg"/>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genda</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and review ground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desired outco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or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BL planning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the momentum go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ing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4" descr="Second_Page.jpg"/>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sired Outcome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session, participants will be able t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nd define the key elements of problem-based learning (PB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planning principles to develop a PBL lesson and address how to prepare students for PB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continue to implement PBL with a cohort or grade-level group of teac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Second_Page.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und Rules</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responsibility for your own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activ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something is not clear, ask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to lea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respectful of participants and prese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nor tim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ence cell ph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Second_Page.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tivator:  Engaging Participants in PBL</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Activator Activity handout as a guide and to document no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 problem pertinent to your school or district, and brainstorm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BL group, discuss some of the skills you utilized to solve the problem and how they support 21st century lear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these skills on your Note-Taking Guide hando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Second_Page.jpg"/>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to Watch the DVD</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Collector hand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progress through this workshop, write down questions you would like answered about the key ideas and strategies presented—especially how you can apply them to your own classroom, school, district, or other learning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Second_Page.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 to PBL</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the DVD introduction and Part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discuss:  How do the skills you identified in the Activator activity compare with the skills demonstrated in the DVD 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of the skills do you want most to include in PBL for y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Second_Page.jpg"/>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nning for PBL </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s 2 and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discuss: How is the PBL described similar to or different from what you currently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4" descr="Second_Page.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ing the Key Question</a:t>
            </a: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 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brainstorm 2–3 problems or key questions you may pose to your students with PBL (with any specific ideas for presentation; e.g., voice mail from expert, article, e-m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4:21:48Z</dcterms:created>
  <dc:creator>ASCD</dc:creator>
  <dc:description>This is the Secondary School version of the Power Point presentation. It is identical in content to the Elementary School version. </dc:description>
  <dc:language>en-US</dc:language>
  <cp:lastModifiedBy>North Rockland High School</cp:lastModifiedBy>
  <dcterms:modified xsi:type="dcterms:W3CDTF">2010-10-01T16:47:23Z</dcterms:modified>
  <cp:revision>52</cp:revision>
  <dc:subject>Problem-Based Learning</dc:subject>
  <dc:title>Problem-Based Learning for the 21st Century Classroom</dc:title>
</cp:coreProperties>
</file>